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7284E-F231-4869-A38A-6EF6E45F2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D4815-1FE1-4375-AF0B-CECE0E5FD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3410B5D-F527-4C87-BE56-FDCFDCACA4F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CDC2C56-F7A5-4A35-A59D-FD016B0A66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CF89655-F40A-4F60-AEEC-EDB9F71405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A42D283-2F3C-441A-AA1B-62B5B900B6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6FFA928-D354-4E31-A729-37D690C717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D1B5D1F-15FD-4799-BBA5-A0015E9D3E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CB090E3-A0EB-4B67-B81E-6794D570919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FD0C9D5-2F6E-4B76-9BFC-C4E472BA862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B4C32AC-9935-4608-B15B-D1F60468D52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032F934-FA2F-42D2-87A9-F7AE961BD8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C86A4-94C9-4D6F-986C-1FD47111E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6E75DE9-6450-46A3-89FC-61E9EE2E6E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C9BF9A7-232C-4389-AFC9-62A75591D8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01F5417-6D3F-47FE-A5AB-41DF1B3CCA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7EA7B9F-4955-4E02-89AF-99C90DBA27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94DC91C-6E24-4AFA-970C-C41C7D20E9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67E5303-BB7C-4722-B6F6-37B0AB807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1C9DCB-A5B3-4935-ACAF-EE660EB16C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DF7402C-6C40-420E-AA76-A77EF6EE9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A618BB2-F483-4245-AE26-52CB121B69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1B7896E-D7F8-4781-AFAE-1A4E1AAC9A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12108-CA60-41BD-A53F-994852E78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873B96F-B988-4F9A-9121-5F5E7E904B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A39559-61C3-44C2-879B-5F385D5E18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163190-2AF2-4192-8893-840D57C977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82D4DF-F4A6-417A-A86F-1C3A1273F9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5C8A55-86A6-4CFC-A7D7-B98BBB3C99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649DBB-25D2-4D8A-AD36-F50B15D7D4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512E7E-54D2-4997-84FB-785E173566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F25695-AE0A-46F0-8C22-2B22BF6C10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EF0967-6D67-43ED-BA1D-CC77159506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ED6CEF-1B25-4AA8-B2E1-3A29F0306A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9C363-6948-42BD-9E10-552B319BB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722F07-394B-4745-ADE9-95885FB25C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116858-30C7-4989-8D70-E2C3D2F163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395F503-1B40-4E04-B454-986AC91F20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2E71F7B-20A6-45C7-B840-B17585A332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7885B71-D6D0-49C4-84D7-BB584E7329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ACC088F-6C67-4F77-A473-252EB75590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69C34C4-96CD-4860-90C3-0EEAB7B4EE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6C05F63-B510-4FDF-89B1-B7C9B4C051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533D76F-FEAF-4BB2-9FF4-BC51312C2E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9AD6C59-22C2-4567-808D-05F45C5AF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5A2DD-A3AD-41DF-982E-E3DCCE3C8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982ADAA-4295-4072-BD99-51A7CD368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68FAD60-B78F-4AA2-B668-C18AB650CF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2556686-9F05-45A9-A98D-42BC3ADAC6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0FD501F-2A7C-4F41-B7B3-A17EB6DAC9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2EF252E-5F39-444C-AAD6-DDD891B110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72E37-422F-4194-8CE2-AC8105DBB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CD549-120F-4A8D-93E5-AD2CD8AB5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2E329-F6E0-47DE-867D-A521C0E6C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815CD-78DE-4655-B00A-50187C327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C1DB6-58E2-4544-8601-B0658FF67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D3E05-EFDD-4054-905A-8C3B48FCD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7869D-E061-4E20-9116-589FA5600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4B95B-8DC3-476A-9EF3-D65868299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0243D-51DC-4C53-87DE-AB38CF2E8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60A1E-38CB-4FDA-8383-D553DDD28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D9223-B4E5-42F7-8A3B-7E418C462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0D5CC-B782-498F-9099-7904C9537F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D116F-D08F-4AD1-8A67-CD06EDE5C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F5B5C-42F0-4CBB-BFBF-77D1939C5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A0271-4963-4BDF-85FB-58F61104B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3866D-DB25-4633-A1D0-BD46A6B1B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4DF8-CD74-4DD4-A43A-DCD5C106E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20B22-4DAC-476B-AC55-094793C774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22D33-B6D6-4477-839A-DE45BA72A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F3E3A-8637-4ED4-BD18-36FEB38E7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A96A8-8556-4AA4-BC7F-5E290EFE4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45856-7BDE-4C83-B220-E5C08CDBB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78142-0156-4DE1-A015-68B5B6325D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0E941E-BCA3-4996-99CB-548EEFE3F6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9A7E869-0117-47D6-B99A-8EE718AB874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F7D5D50-8E3C-457E-9B6B-DC96126417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C011973-4416-43E8-B1D8-C8BEC3D5755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3C6FC-AF0F-4CE3-BD98-51D5FA6E3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9A9CC3F-F307-4B51-B11D-7D81B36553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1DDA9ED-2B0C-4998-8629-33453192383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4061B9A-D84B-4C00-98AA-57803191D4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199B0F3-894D-4BEF-B89F-3F46F296EE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DCCDD7-6C52-40B9-9CAF-33591EAC7B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2C166AD-3FAD-404C-A117-C4B04F22F7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B453BFB-9C19-4217-986A-06C893D322C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6642B4C-5B1B-4C4D-B42A-BB84C68E63B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6B13AFD-3B9E-4D24-A601-57474AAAAB6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E304C4-B20C-40F5-B73E-300D239AC5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449EA-D50D-49E9-83BA-C502F513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5CA81-A4AF-487C-940F-7D9B68742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E09C9-822C-49CF-A6F2-590898AA0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EC50CF-6D7B-4FF0-A76A-FBC889955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F60541-86AF-46F2-9912-237B92CEFB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3391B-2D4E-499A-8DDB-C9A8C06A6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29B82-2EDB-49D6-B069-1000E58FC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2DD2F-F766-4036-9812-979F4FED9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1738F-A3B1-4E37-A6A6-AA29A0C73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2660B-2CF3-4AC6-9351-150DB1752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251B51-ECD2-4323-9F89-697BB1A12F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86CA4-D2DF-47D4-8EBA-37E078DA3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EEC26D-7DE4-432E-B609-8E268D7E9A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1A7F8A-723F-4A3E-9073-148BECF9CC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83EEC1-F54C-4A20-8A98-2BA3C46AA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B7A8A0-EA07-4FE3-B747-A3B89738FF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FA77D-954A-48DD-BA36-369E8FFB4F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8B47F0-9B39-479C-8838-235F32FE10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185FFF-4771-4C22-83D4-AA632920E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0D31A-408C-4C9D-B29F-1C2A7B027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5F9BC9-2192-4F9A-B4DB-65071A38B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B53FD-73FC-461D-99B6-D3D77BFC6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F292D-25A6-48ED-A0D0-79DF01A17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28C1D-27A7-402F-AF40-9065551255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5AF6F1-0A36-4D90-8DA0-732330F021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14B67F-1F14-4542-96C0-E5167C116C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C63285-2724-4A2E-9494-DCC36B6891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1F810-A8A4-449E-862C-7E62F7C36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94EDFD-10E8-435A-A106-2CF32CAB95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D4A9C6-73A3-434B-84DC-C3181CD65E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AB0DF0-22A9-4C75-9AD8-3FF855540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069F7-7FA5-4542-8F5F-A21D78E3E6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A9B55-E1E3-4E07-8AC6-370DB04C1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D321-E475-46F0-B8C2-B88D224B1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B60A3-C97D-4D54-946A-0A56EC1E7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DD722-EE17-4907-A15C-6BEE4529C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E6D5B-16BF-453F-B44F-1999DFB4B5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BECE71-758C-49D2-9A53-3CBEE850BF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9E2DA5-F87E-46CC-BAA3-66C797DFB0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D5CDCA-7E9E-4F98-B551-47B83456DC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C77B6-ED0B-405F-9787-2C8568972C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47CDA8-D9F9-45FA-B4D8-630DA9BD0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C4F47-1B24-4998-AA2A-AB4FC04F5C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07C8C4-7F5F-402A-915B-C44AECBBB3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3E88-8AE6-4D35-9FDB-5F27E8C4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A0DD1-B68E-41E9-ABBE-1B3231D679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1C925-412C-46D2-8910-A977DFC8A4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52A74-A14A-4CC6-8307-448D168A0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B749E8-0A3B-4E73-A11A-7BB3DF0BCA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D081AF-55DA-41F4-9970-CB04B7076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004D44-1702-4DD6-A1AD-5028E86C5B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13650D-1555-43D7-9091-C56F48EAAB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B0A15E0-679C-4BDE-A9C9-39F3D254966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958F827-06DA-4457-A1BE-A5D414E57AE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A600A31-E901-4E10-AADB-E04797EC566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B93C-0D89-4041-8A45-067905533A28}"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27F4-091D-47C3-87D3-6E0461E0F33A}"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CF02-71B3-4FB8-8328-91F2DD871E22}"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F721-5867-482D-8250-EB17424907D4}"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5E13-C78C-4998-BA3C-524D8F76487F}"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E7FD-0EA5-44F3-B68C-67F590A6388F}"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218E-7290-4B53-ACCD-41D76093AEB3}"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F9B8-2EF8-48FC-91F7-6025665284E8}"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D738-496A-433D-B0C3-14D445C923DC}"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9B9D-80C8-4F8D-987E-93EB13552EA6}"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19D5-9215-4C91-8178-7818DB2B99FA}" type="slidenum">
              <a:rPr b="0" lang="en-GB"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4279-FFE8-4590-88B1-A24FA0196BCD}"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187280" y="2852280"/>
            <a:ext cx="6400800" cy="175284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b86"/>
                </a:solidFill>
                <a:latin typeface="Georgia"/>
              </a:rPr>
              <a:t>OCTOBER 2014</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b86"/>
                </a:solidFill>
                <a:latin typeface="Georgia"/>
              </a:rPr>
              <a:t>CONSULTATION ON PERFORMANCE DESCRIPTOR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b86"/>
                </a:solidFill>
                <a:latin typeface="Georgia"/>
              </a:rPr>
              <a:t>INTRODUCATION</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d16349"/>
                </a:solidFill>
                <a:latin typeface="Georgia"/>
              </a:rPr>
              <a:t>Curriculum and Assessment</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Next steps</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56320" indent="-2563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The draft performance descriptors will be </a:t>
            </a:r>
            <a:r>
              <a:rPr b="1" lang="en-GB" sz="2100" spc="-1" strike="noStrike">
                <a:solidFill>
                  <a:srgbClr val="000000"/>
                </a:solidFill>
                <a:latin typeface="Georgia"/>
              </a:rPr>
              <a:t>trialled </a:t>
            </a:r>
            <a:r>
              <a:rPr b="0" lang="en-GB" sz="2100" spc="-1" strike="noStrike">
                <a:solidFill>
                  <a:srgbClr val="000000"/>
                </a:solidFill>
                <a:latin typeface="Georgia"/>
              </a:rPr>
              <a:t>in a representative sample of schools during the summer term 2015 to evaluate their effectiveness in providing the basis for valid and reliable assessment outcomes. The outcomes of the trials and the feedback from this consultation process will inform the final stages of development of the performance descriptors and the development of: </a:t>
            </a:r>
            <a:endParaRPr b="0" lang="en-US" sz="2100" spc="-1" strike="noStrike">
              <a:solidFill>
                <a:srgbClr val="000000"/>
              </a:solidFill>
              <a:latin typeface="Georgia"/>
            </a:endParaRPr>
          </a:p>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statutory arrangements for teacher assessment using the performance descriptors; </a:t>
            </a:r>
            <a:endParaRPr b="0" lang="en-US" sz="2100" spc="-1" strike="noStrike">
              <a:solidFill>
                <a:srgbClr val="000000"/>
              </a:solidFill>
              <a:latin typeface="Georgia"/>
            </a:endParaRPr>
          </a:p>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final guidance for schools (and those responsible for external moderation arrangements) on how the performance descriptors should be used; </a:t>
            </a:r>
            <a:endParaRPr b="0" lang="en-US" sz="2100" spc="-1" strike="noStrike">
              <a:solidFill>
                <a:srgbClr val="000000"/>
              </a:solidFill>
              <a:latin typeface="Georgia"/>
            </a:endParaRPr>
          </a:p>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an updated national model for the external moderation of teacher assessment; and </a:t>
            </a:r>
            <a:endParaRPr b="0" lang="en-US" sz="2100" spc="-1" strike="noStrike">
              <a:solidFill>
                <a:srgbClr val="000000"/>
              </a:solidFill>
              <a:latin typeface="Georgia"/>
            </a:endParaRPr>
          </a:p>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nationally developed exemplification of the work of pupils for each performance descriptor at the end of each key stage. </a:t>
            </a:r>
            <a:endParaRPr b="0" lang="en-US" sz="2100" spc="-1" strike="noStrike">
              <a:solidFill>
                <a:srgbClr val="000000"/>
              </a:solidFill>
              <a:latin typeface="Georgia"/>
            </a:endParaRPr>
          </a:p>
          <a:p>
            <a:pPr marL="256320" indent="-2563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b9899"/>
                </a:solidFill>
                <a:latin typeface="Georgia"/>
              </a:rPr>
              <a:t>Performance descriptors</a:t>
            </a:r>
            <a:endParaRPr b="0" lang="en-US" sz="28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fontScale="97000"/>
          </a:bodyPr>
          <a:p>
            <a:pP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New performance descriptors have recently been published. These will inform statutory teacher assessment at the end of key stage 1 and 2 in summer 2016. Final versions will be published by September 2015. </a:t>
            </a:r>
            <a:endParaRPr b="0" lang="en-US" sz="2400" spc="-1" strike="noStrike">
              <a:solidFill>
                <a:srgbClr val="000000"/>
              </a:solidFill>
              <a:latin typeface="Georgia"/>
            </a:endParaRPr>
          </a:p>
          <a:p>
            <a:pP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The new performance descriptors will inform teacher assessments  at the end of key stages 1 and 2 in key subjects. </a:t>
            </a:r>
            <a:endParaRPr b="0" lang="en-US" sz="24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a:p>
            <a:pP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Georgia"/>
              </a:rPr>
              <a:t>https://www.gov.uk/government/uploads/system/uploads/attachment_data/file/347985/National_curriculum_and_assessment_from_September_2014.pdf</a:t>
            </a:r>
            <a:endParaRPr b="0" lang="en-US" sz="400" spc="-1" strike="noStrike">
              <a:solidFill>
                <a:srgbClr val="000000"/>
              </a:solidFill>
              <a:latin typeface="Georgia"/>
            </a:endParaRPr>
          </a:p>
          <a:p>
            <a:pP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The place of TA in floor standards</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Georgia"/>
              </a:rPr>
              <a:t>The teacher assessment of key subjects will contribute to the measures used for the new primary floor standard from 2016. At key stage 1, this is reading, writing and mathematics. At key stage 2 it is writing (alongside test results in reading and mathematics). </a:t>
            </a:r>
            <a:endParaRPr b="0" lang="en-US" sz="2500" spc="-1" strike="noStrike">
              <a:solidFill>
                <a:srgbClr val="000000"/>
              </a:solidFill>
              <a:latin typeface="Georgia"/>
            </a:endParaRPr>
          </a:p>
          <a:p>
            <a:pPr marL="259200" indent="-259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Georgia"/>
              </a:rPr>
              <a:t>To ensure that a broad picture of children’s attainment is maintained, teacher assessment will also be statutory for science at key stage 1, and reading, mathematics and science at key stage 2. The teacher assessment of these subjects will not form part of the new floor standard. </a:t>
            </a: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Structure</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The performance descriptors are closely aligned to the new national curriculum and have been drafted with experts, including teachers, representatives from Local Authorities, curriculum and subject experts. </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It is not advisable to use them for teacher assessment in assessment systems until September 2015 when the final versions have been published. </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Performance descriptors will not be written for other subjects. </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4" name=""/>
          <p:cNvGraphicFramePr/>
          <p:nvPr/>
        </p:nvGraphicFramePr>
        <p:xfrm>
          <a:off x="684360" y="476280"/>
          <a:ext cx="7488000" cy="6135480"/>
        </p:xfrm>
        <a:graphic>
          <a:graphicData uri="http://schemas.openxmlformats.org/drawingml/2006/table">
            <a:tbl>
              <a:tblPr/>
              <a:tblGrid>
                <a:gridCol w="1079280"/>
                <a:gridCol w="1152720"/>
                <a:gridCol w="1224000"/>
                <a:gridCol w="2520720"/>
                <a:gridCol w="1511280"/>
              </a:tblGrid>
              <a:tr h="49068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Key Stage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Subjec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Performance descriptors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National Curriculum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Included in floor standard?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80928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1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Reading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Four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xternally set, internally marked test</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Teacher assessmen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80820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1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Writing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Four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 writing tes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nglish grammar, punctuation and spelling test</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Teacher assessmen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80820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1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Mathematics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Four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xternally set, internally marked test</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Teacher assessmen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1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Science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On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 science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t in floor standard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101124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2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Writing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Fiv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 writing tes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nglish grammar, punctuation and spelling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Teacher assessmen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2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Mathematics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On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xternally set, externally marked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ational curriculum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2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Science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On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Biennial sample tests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t in floor standard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2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Reading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On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xternally set, externally marked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ational curriculum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Georgia"/>
              </a:rPr>
              <a:t>Using the performance descriptors </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eorgia"/>
              </a:rPr>
              <a:t>The performance descriptors are designed to only be used to inform teacher assessment at the </a:t>
            </a:r>
            <a:r>
              <a:rPr b="1" lang="en-GB" sz="2300" spc="-1" strike="noStrike">
                <a:solidFill>
                  <a:srgbClr val="000000"/>
                </a:solidFill>
                <a:latin typeface="Georgia"/>
              </a:rPr>
              <a:t>end of each key stage</a:t>
            </a:r>
            <a:r>
              <a:rPr b="0" lang="en-GB" sz="2300" spc="-1" strike="noStrike">
                <a:solidFill>
                  <a:srgbClr val="000000"/>
                </a:solidFill>
                <a:latin typeface="Georgia"/>
              </a:rPr>
              <a:t>. </a:t>
            </a: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eorgia"/>
              </a:rPr>
              <a:t>The draft performance descriptors set out the characteristics of the performance of pupils </a:t>
            </a:r>
            <a:r>
              <a:rPr b="1" lang="en-GB" sz="2300" spc="-1" strike="noStrike">
                <a:solidFill>
                  <a:srgbClr val="000000"/>
                </a:solidFill>
                <a:latin typeface="Georgia"/>
              </a:rPr>
              <a:t>in relation to the national curriculum programmes of study</a:t>
            </a:r>
            <a:r>
              <a:rPr b="0" lang="en-GB" sz="2300" spc="-1" strike="noStrike">
                <a:solidFill>
                  <a:srgbClr val="000000"/>
                </a:solidFill>
                <a:latin typeface="Georgia"/>
              </a:rPr>
              <a:t> at the end of each key stage.</a:t>
            </a: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eorgia"/>
              </a:rPr>
              <a:t> </a:t>
            </a:r>
            <a:r>
              <a:rPr b="0" lang="en-GB" sz="2300" spc="-1" strike="noStrike">
                <a:solidFill>
                  <a:srgbClr val="000000"/>
                </a:solidFill>
                <a:latin typeface="Georgia"/>
              </a:rPr>
              <a:t>They have been drafted to </a:t>
            </a:r>
            <a:r>
              <a:rPr b="1" lang="en-GB" sz="2300" spc="-1" strike="noStrike">
                <a:solidFill>
                  <a:srgbClr val="000000"/>
                </a:solidFill>
                <a:latin typeface="Georgia"/>
              </a:rPr>
              <a:t>match the pitch</a:t>
            </a:r>
            <a:r>
              <a:rPr b="0" lang="en-GB" sz="2300" spc="-1" strike="noStrike">
                <a:solidFill>
                  <a:srgbClr val="000000"/>
                </a:solidFill>
                <a:latin typeface="Georgia"/>
              </a:rPr>
              <a:t> of the published </a:t>
            </a:r>
            <a:r>
              <a:rPr b="1" lang="en-GB" sz="2300" spc="-1" strike="noStrike">
                <a:solidFill>
                  <a:srgbClr val="000000"/>
                </a:solidFill>
                <a:latin typeface="Georgia"/>
              </a:rPr>
              <a:t>test frameworks</a:t>
            </a:r>
            <a:r>
              <a:rPr b="0" lang="en-GB" sz="2300" spc="-1" strike="noStrike">
                <a:solidFill>
                  <a:srgbClr val="000000"/>
                </a:solidFill>
                <a:latin typeface="Georgia"/>
              </a:rPr>
              <a:t> (where applicable) and the language of the </a:t>
            </a:r>
            <a:r>
              <a:rPr b="1" lang="en-GB" sz="2300" spc="-1" strike="noStrike">
                <a:solidFill>
                  <a:srgbClr val="000000"/>
                </a:solidFill>
                <a:latin typeface="Georgia"/>
              </a:rPr>
              <a:t>programmes of study</a:t>
            </a:r>
            <a:r>
              <a:rPr b="0" lang="en-GB" sz="2300" spc="-1" strike="noStrike">
                <a:solidFill>
                  <a:srgbClr val="000000"/>
                </a:solidFill>
                <a:latin typeface="Georgia"/>
              </a:rPr>
              <a:t>. </a:t>
            </a: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eorgia"/>
              </a:rPr>
              <a:t>Teachers will be expected to make their </a:t>
            </a:r>
            <a:r>
              <a:rPr b="1" lang="en-GB" sz="2300" spc="-1" strike="noStrike">
                <a:solidFill>
                  <a:srgbClr val="000000"/>
                </a:solidFill>
                <a:latin typeface="Georgia"/>
              </a:rPr>
              <a:t>professional judgements</a:t>
            </a:r>
            <a:r>
              <a:rPr b="0" lang="en-GB" sz="2300" spc="-1" strike="noStrike">
                <a:solidFill>
                  <a:srgbClr val="000000"/>
                </a:solidFill>
                <a:latin typeface="Georgia"/>
              </a:rPr>
              <a:t> by being familiar with the new performance descriptors and, as now, using national exemplification to arrive at judgements which are consistent with national standards. </a:t>
            </a: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Georgia"/>
              </a:rPr>
              <a:t>Using the performance descriptors </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Teachers will need to confirm which description most closely matches a pupil’s overall attainment. There are currently </a:t>
            </a:r>
            <a:r>
              <a:rPr b="1" lang="en-GB" sz="2700" spc="-1" strike="noStrike">
                <a:solidFill>
                  <a:srgbClr val="000000"/>
                </a:solidFill>
                <a:latin typeface="Georgia"/>
              </a:rPr>
              <a:t>no weightings</a:t>
            </a:r>
            <a:r>
              <a:rPr b="0" lang="en-GB" sz="2700" spc="-1" strike="noStrike">
                <a:solidFill>
                  <a:srgbClr val="000000"/>
                </a:solidFill>
                <a:latin typeface="Georgia"/>
              </a:rPr>
              <a:t> given to any element within the performance descriptors, so pupils must demonstrate the majority of the elements described.</a:t>
            </a:r>
            <a:endParaRPr b="0" lang="en-US" sz="2700" spc="-1" strike="noStrike">
              <a:solidFill>
                <a:srgbClr val="000000"/>
              </a:solidFill>
              <a:latin typeface="Georgia"/>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 </a:t>
            </a:r>
            <a:r>
              <a:rPr b="0" lang="en-GB" sz="2700" spc="-1" strike="noStrike">
                <a:solidFill>
                  <a:srgbClr val="000000"/>
                </a:solidFill>
                <a:latin typeface="Georgia"/>
              </a:rPr>
              <a:t>Teachers should refer to a </a:t>
            </a:r>
            <a:r>
              <a:rPr b="1" lang="en-GB" sz="2700" spc="-1" strike="noStrike">
                <a:solidFill>
                  <a:srgbClr val="000000"/>
                </a:solidFill>
                <a:latin typeface="Georgia"/>
              </a:rPr>
              <a:t>range of evidence</a:t>
            </a:r>
            <a:r>
              <a:rPr b="0" lang="en-GB" sz="2700" spc="-1" strike="noStrike">
                <a:solidFill>
                  <a:srgbClr val="000000"/>
                </a:solidFill>
                <a:latin typeface="Georgia"/>
              </a:rPr>
              <a:t> drawn from classwork and independent work, including the outcomes of statutory tests, where available, at the end of key stage 1. </a:t>
            </a:r>
            <a:endParaRPr b="0" lang="en-US" sz="2700" spc="-1" strike="noStrike">
              <a:solidFill>
                <a:srgbClr val="000000"/>
              </a:solidFill>
              <a:latin typeface="Georgia"/>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Georgia"/>
              </a:rPr>
              <a:t>Lower attaining pupils </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Teachers will need to determine, where relevant, whether to assess pupils with special educational needs </a:t>
            </a:r>
            <a:r>
              <a:rPr b="1" lang="en-GB" sz="2100" spc="-1" strike="noStrike">
                <a:solidFill>
                  <a:srgbClr val="000000"/>
                </a:solidFill>
                <a:latin typeface="Georgia"/>
              </a:rPr>
              <a:t>against the P-scales or against</a:t>
            </a:r>
            <a:r>
              <a:rPr b="0" lang="en-GB" sz="2100" spc="-1" strike="noStrike">
                <a:solidFill>
                  <a:srgbClr val="000000"/>
                </a:solidFill>
                <a:latin typeface="Georgia"/>
              </a:rPr>
              <a:t> the </a:t>
            </a:r>
            <a:r>
              <a:rPr b="1" lang="en-GB" sz="2100" spc="-1" strike="noStrike">
                <a:solidFill>
                  <a:srgbClr val="000000"/>
                </a:solidFill>
                <a:latin typeface="Georgia"/>
              </a:rPr>
              <a:t>performance descriptors.</a:t>
            </a:r>
            <a:r>
              <a:rPr b="0" lang="en-GB" sz="2100" spc="-1" strike="noStrike">
                <a:solidFill>
                  <a:srgbClr val="000000"/>
                </a:solidFill>
                <a:latin typeface="Georgia"/>
              </a:rPr>
              <a:t> This should be based on which one most closely matches the pupil’s overall attainment at the end of the key stage for each subject. </a:t>
            </a:r>
            <a:endParaRPr b="0" lang="en-US" sz="2100" spc="-1" strike="noStrike">
              <a:solidFill>
                <a:srgbClr val="000000"/>
              </a:solidFill>
              <a:latin typeface="Georgia"/>
            </a:endParaRPr>
          </a:p>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There will be some pupils who are not assessed against the P-scales (because they are working above P8 or because they do not have special educational needs), but who have not yet achieved the contents of the ‘below national standard’ performance descriptor (in subjects with several descriptors). </a:t>
            </a:r>
            <a:r>
              <a:rPr b="1" lang="en-GB" sz="2100" spc="-1" strike="noStrike">
                <a:solidFill>
                  <a:srgbClr val="000000"/>
                </a:solidFill>
                <a:latin typeface="Georgia"/>
              </a:rPr>
              <a:t>In such cases, pupils will be given a code (which will be determined) to ensure that their attainment is still captured.</a:t>
            </a:r>
            <a:r>
              <a:rPr b="0" lang="en-GB" sz="2100" spc="-1" strike="noStrike">
                <a:solidFill>
                  <a:srgbClr val="000000"/>
                </a:solidFill>
                <a:latin typeface="Georgia"/>
              </a:rPr>
              <a:t> </a:t>
            </a:r>
            <a:endParaRPr b="0" lang="en-US" sz="2100" spc="-1" strike="noStrike">
              <a:solidFill>
                <a:srgbClr val="000000"/>
              </a:solidFill>
              <a:latin typeface="Georgia"/>
            </a:endParaRPr>
          </a:p>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In subjects with only one performance descriptor, all pupils not assessed against the P-scales will be marked in the same way – </a:t>
            </a:r>
            <a:r>
              <a:rPr b="1" lang="en-GB" sz="2100" spc="-1" strike="noStrike">
                <a:solidFill>
                  <a:srgbClr val="000000"/>
                </a:solidFill>
                <a:latin typeface="Georgia"/>
              </a:rPr>
              <a:t>meeting, or not meeting, the ‘national standard’.</a:t>
            </a:r>
            <a:r>
              <a:rPr b="0" lang="en-GB" sz="2100" spc="-1" strike="noStrike">
                <a:solidFill>
                  <a:srgbClr val="000000"/>
                </a:solidFill>
                <a:latin typeface="Georgia"/>
              </a:rPr>
              <a:t> </a:t>
            </a:r>
            <a:endParaRPr b="0" lang="en-US" sz="2100" spc="-1" strike="noStrike">
              <a:solidFill>
                <a:srgbClr val="000000"/>
              </a:solidFill>
              <a:latin typeface="Georgia"/>
            </a:endParaRPr>
          </a:p>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Georgia"/>
              </a:rPr>
              <a:t>Mastery</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   </a:t>
            </a:r>
            <a:r>
              <a:rPr b="0" lang="en-GB" sz="2700" spc="-1" strike="noStrike">
                <a:solidFill>
                  <a:srgbClr val="000000"/>
                </a:solidFill>
                <a:latin typeface="Georgia"/>
              </a:rPr>
              <a:t>The performance descriptors do not include any aspects of performance from the programme of study for the following key stage. Any pupils considered to have attained the ‘Mastery standard’ are expected to explore the curriculum in greater depth and build on the breadth of their knowledge and skills within that key stag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1T22:13:32Z</dcterms:created>
  <dc:creator>Salmon, Davina</dc:creator>
  <dc:description/>
  <dc:language>en-US</dc:language>
  <cp:lastModifiedBy>Salmon, Davina</cp:lastModifiedBy>
  <dcterms:modified xsi:type="dcterms:W3CDTF">2014-11-07T16:34:37Z</dcterms:modified>
  <cp:revision>30</cp:revision>
  <dc:subject/>
  <dc:title>Assessment Matters</dc:title>
</cp:coreProperties>
</file>